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4D9-254D-4239-AF97-B7BD3999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4BC5-500F-484F-9107-3BD505E4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4D7-0F59-4A73-8C5E-BA63742F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D81-8A5B-4819-BD25-459FFB89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C36-56E6-40E6-A4AB-03186607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70F-0170-4C3E-9B2C-2E0D3692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76B-E510-4C41-B879-59788C10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686-D34F-4833-AC0C-57D0813E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061-7EB4-42E0-B6E9-2180DDCA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38D-6537-4CD7-A6BD-213CDA86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D34-10B5-4D6F-905B-85E86936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3F8-36D8-4B0B-8911-5E840DCB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0AC5-77D9-4909-8BC1-2972EFA539C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ject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Sustainable intensific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Research –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3716280"/>
            <a:ext cx="7272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Focused scale: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ousehold/f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ow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: household members/plot/an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Up: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ity/landscape/water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900000" y="1844640"/>
            <a:ext cx="672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ecision uni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ousehold/fa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al resources/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stainable inten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755640" y="198900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plot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ut farm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iophysical &amp; socio-economic </a:t>
            </a: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rivers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included but </a:t>
            </a: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resear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iversity of households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= typ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the poorest of the poor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(no means to test technolog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755640" y="1989000"/>
            <a:ext cx="74167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research on development compon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mprove/combine current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Link: development, research &amp;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t a value chain project, </a:t>
            </a: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but aware of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More integration with National &amp; Regional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Participatory selection of basket of opportun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Farmers/communities decide which one(s) to implement (</a:t>
            </a:r>
            <a:r>
              <a:rPr b="0" i="1" lang="en-GB" sz="3000" spc="-1" strike="noStrike">
                <a:solidFill>
                  <a:srgbClr val="898989"/>
                </a:solidFill>
                <a:latin typeface="Calibri"/>
              </a:rPr>
              <a:t>understanding decision-making, co-learning</a:t>
            </a: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Assessment at farm, but also down/up scales. Qualitative &amp; quantitative (difficult) analyses = process &amp; social research (M&amp;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Note: Time demanding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463680" y="1962000"/>
            <a:ext cx="82803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pilot studies/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link with on-going projects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, but design phas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-designing &amp; co-learning with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Funding Institutions role on leverage this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eview of coming initiatives/project (site sele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isk of quick wins – no sustainable unless linked to strong current proces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4:43:47Z</dcterms:created>
  <dc:creator>dvalbuena</dc:creator>
  <dc:description/>
  <dc:language>en-US</dc:language>
  <cp:lastModifiedBy>PBallantyne</cp:lastModifiedBy>
  <dcterms:modified xsi:type="dcterms:W3CDTF">2012-02-02T06:04:42Z</dcterms:modified>
  <cp:revision>10</cp:revision>
  <dc:subject/>
  <dc:title>Project boundaries</dc:title>
</cp:coreProperties>
</file>